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3EAA3F-99A0-4AF8-BC57-E551D59F0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A86799-8956-4E72-9C14-23B7F63F8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A14528-5123-41E2-BD87-3D8928DC4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59F1EA-2B55-48C1-BCAF-0639E17C3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13871-2E58-4A3D-9AD1-282381703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B34B0-3494-499E-8FF2-208AE4E93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64497-0DE8-40AD-B777-DCE299C60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001C8-021B-4C83-A034-97298A491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07188-5577-4D0D-8155-F1B9E6CC8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90F53-3973-49A1-95A5-192379D34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AD39F-2422-4901-8A96-F791862A0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0B8853-538D-44E9-AA80-964F5FB97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5C413-0A49-40C1-87AB-F4DBB653E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9B87C-9A3E-4519-98BD-0CD4BCC97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ADDF0-0097-46BD-AC6F-DBC8BEDD0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A028A-C162-4AE5-A832-420C3506D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4A8FE-5D69-45A8-800B-FB1974710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8010EC-DE13-48E9-8287-C772FADB5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DC0477-3508-4A5E-B838-8E3D553C2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C77EB6-308E-41CE-9A35-F21EDC859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44AEC3-2A09-44D6-B529-54B617A5B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D6F641-7CD7-49AE-851F-898363983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FAAE76-E547-49E6-877D-CE368E60D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A3E5BA-DE1A-4AC9-9BA7-47CFE1F83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CAP_prj.exe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BEECD-AD79-4E07-A0D8-162A4D62E57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594560" y="0"/>
            <a:ext cx="1549440" cy="2157480"/>
          </a:xfrm>
          <a:prstGeom prst="rect">
            <a:avLst/>
          </a:prstGeom>
          <a:ln w="0">
            <a:noFill/>
          </a:ln>
        </p:spPr>
      </p:pic>
      <p:sp>
        <p:nvSpPr>
          <p:cNvPr id="16" name=""/>
          <p:cNvSpPr/>
          <p:nvPr/>
        </p:nvSpPr>
        <p:spPr>
          <a:xfrm>
            <a:off x="673560" y="106200"/>
            <a:ext cx="401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Use the mouse button to activate each presentation st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4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7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D1F1B-ACE0-45C1-A5FC-BFDAECE5374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CAP_prj.exe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AP</a:t>
            </a:r>
            <a:br>
              <a:rPr sz="4600"/>
            </a:b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ryptographic Analysis Program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2971800" y="4267080"/>
            <a:ext cx="6019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A Simple Homophonic Cipher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077320" y="152280"/>
            <a:ext cx="914400" cy="12733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2594880" y="6477120"/>
            <a:ext cx="559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s Enter or click on your mouse button to contin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35080" y="5364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imple Homophonic Ciph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98160" y="2225160"/>
            <a:ext cx="7646760" cy="27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is a substitution cipher that tries to hide frequency dat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does it by randomly assigning one of four numbers to each letter based on a keywo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>
            <a:hlinkClick r:id="" action="ppaction://hlinkshowjump?jump=endshow"/>
          </p:cNvPr>
          <p:cNvPicPr/>
          <p:nvPr/>
        </p:nvPicPr>
        <p:blipFill>
          <a:blip r:embed="rId1"/>
          <a:stretch/>
        </p:blipFill>
        <p:spPr>
          <a:xfrm>
            <a:off x="228600" y="6248520"/>
            <a:ext cx="1009800" cy="485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6B8723-8640-4B22-B8C7-0386482BF49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10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eywor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26520" y="1916280"/>
            <a:ext cx="8520120" cy="283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eak the numbers 1 to 100 (represent 100 by 00) up into four groups of 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ign one number from each group to the letters a to z (skipping j – any j in the plaintext is coded as an 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assignment is accomplished like the simple shift cipher so if a is assigned 07 then b is assigned 08, and so 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assignment is determined by a four letter keyword, for example if the keyword is “next” then the assignment is given b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501560" y="4703760"/>
            <a:ext cx="5819760" cy="176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01 02 03 04 05 06 07 08 09 10 11 12 13 14 15 16 17 18 19 20 21 22 23 24 2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  o  p  q  r  s  t  u  v  w  x  y  z  a  b  c  d  e  f  g  h  i  k  l  m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26 27 28 29 30 31 32 33 34 35 36 37 38 39 40 41 42 43 44 45 46 47 48 49 5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e  f  g  h  i  k  l  m  n  o  p  q  r  s  t  u  v  w  x  y  z  a  b  c 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51 52 53 54 55 56 57 58 59 60 61 62 63 64 65 66 67 68 69 70 71 72 73 74 7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  y  z  a  b  c  d  e  f  g  h  i  k  l  m  n  o  p  q  r  s  t  u  v  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76 77 78 79 80 81 82 83 84 85 86 87 88 89 90 91 92 93 94 95 96 97 98 99 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t  u  v  w  x  y  z  a  b  c  d  e  f  g  h  i  k  l  m  n  o  p  q  r  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527120" y="4808520"/>
            <a:ext cx="344520" cy="17208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A48431-A0DD-40FC-83CB-C9306F717FE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10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10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10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0T07:51:43Z</dcterms:created>
  <dc:creator>Richard Spillman</dc:creator>
  <dc:description/>
  <dc:language>en-US</dc:language>
  <cp:lastModifiedBy>Richard Spillman</cp:lastModifiedBy>
  <dcterms:modified xsi:type="dcterms:W3CDTF">2004-04-30T23:35:38Z</dcterms:modified>
  <cp:revision>69</cp:revision>
  <dc:subject/>
  <dc:title>CAP Cryptographic Analysis Program</dc:title>
</cp:coreProperties>
</file>